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DEA5-DBF3-4324-9ECE-C83EC12D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E9BE-9583-46FB-982F-80ECEF22E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539-BE4B-48E0-9BD4-7A71EF407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8874-CB2C-4811-BE87-48045E8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F82-F82E-40E3-8BF8-A4BCA9B0B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48B-61C1-4AE6-97EE-1E3B31519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45F-FB2F-4CFE-BC36-05976ECF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0CD6-FFAC-4113-9037-C9E9480C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753-057B-4E57-9E4B-B364023F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52EE-B3B7-464F-BEA2-4CACF2A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E2EA-0AC5-44AB-AB00-33FAED87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933F-39C6-4AEA-88D3-001881C4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4AB-4E77-4384-A387-A5EB80BDF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DB4C-D15A-4353-B7C8-56AFF10C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503D-761C-42DF-8838-0247ABF61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l.gov.uk/prodserv/ana/foodres/environ/risk/food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14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5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ppm or ppb or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irc1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Dioxin Pyramid of Sickness"/>
          <p:cNvPicPr/>
          <p:nvPr/>
        </p:nvPicPr>
        <p:blipFill>
          <a:blip r:embed="rId1"/>
          <a:stretch/>
        </p:blipFill>
        <p:spPr>
          <a:xfrm>
            <a:off x="22860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Dioxin Pyramid of Health"/>
          <p:cNvPicPr/>
          <p:nvPr/>
        </p:nvPicPr>
        <p:blipFill>
          <a:blip r:embed="rId2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5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4641840" y="1523880"/>
            <a:ext cx="45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oxic manmade chem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JPG"/>
          <p:cNvPicPr/>
          <p:nvPr/>
        </p:nvPicPr>
        <p:blipFill>
          <a:blip r:embed="rId1"/>
          <a:stretch/>
        </p:blipFill>
        <p:spPr>
          <a:xfrm>
            <a:off x="3857760" y="1676520"/>
            <a:ext cx="4066920" cy="4341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066680" y="1981080"/>
            <a:ext cx="2362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  skin damage, birth defects, affects entir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362320" y="624852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exposed to dioxin that leaked from a chemical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agent-orange"/>
          <p:cNvPicPr/>
          <p:nvPr/>
        </p:nvPicPr>
        <p:blipFill>
          <a:blip r:embed="rId1"/>
          <a:stretch/>
        </p:blipFill>
        <p:spPr>
          <a:xfrm>
            <a:off x="380880" y="3429000"/>
            <a:ext cx="4267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 “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of agent or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logo-cycle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f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752480"/>
            <a:ext cx="3124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4551p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baby_pacif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rubberDu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Water-inlet-with-cap--with-spray-nozzel-Spray-burst-of-steam-Irons-20483499607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F15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F15_12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F15_13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F15_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a pollution source, often see more tolerant plants growing instead of what would normally b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s there really such a thing as too much of a good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toothpaste"/>
          <p:cNvPicPr/>
          <p:nvPr/>
        </p:nvPicPr>
        <p:blipFill>
          <a:blip r:embed="rId1"/>
          <a:stretch/>
        </p:blipFill>
        <p:spPr>
          <a:xfrm>
            <a:off x="1447920" y="228600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e deer teeth. The teeth on the left are from a deer that was grazing on vegetation laden with fluoride emitted from a local aluminum plant. The mule deer teeth on the right came from a healthy de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ule deer teeth normal and with flouride damage"/>
          <p:cNvPicPr/>
          <p:nvPr/>
        </p:nvPicPr>
        <p:blipFill>
          <a:blip r:embed="rId1"/>
          <a:stretch/>
        </p:blipFill>
        <p:spPr>
          <a:xfrm>
            <a:off x="2743200" y="4114800"/>
            <a:ext cx="3903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20 mg consumed daily is enough to cause bone problems within 10 to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of the pop. is at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futur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stimate that about 50% of bone disease may be flourid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15_6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infosys</cp:lastModifiedBy>
  <cp:lastPrinted>2014-02-05T17:27:29Z</cp:lastPrinted>
  <dcterms:modified xsi:type="dcterms:W3CDTF">2014-02-05T18:09:17Z</dcterms:modified>
  <cp:revision>40</cp:revision>
  <dc:subject/>
  <dc:title>Environmental Health and Toxicology</dc:title>
</cp:coreProperties>
</file>